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E277-44A4-43DA-9DC0-8C2F5A3BCE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E72D-28BF-4B19-AEE9-EE98870FA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/J=IB, F= Immer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2D0F-63AA-4AA4-9CD6-3992053C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058-F0CC-43C3-AE60-075A7852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CB6-9381-40B7-9CE1-F032B6B9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432-3874-4B57-AC88-5FC11A93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C5FB-7B22-45F7-B186-AB52C094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22C6-7C2D-4E44-9A27-CE96AF0F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A4D4-FBD3-491B-BA77-63E968FA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0D33-0137-4B43-AE52-841C33B3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7BF7-F2EF-4788-8327-61921941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DFB5-FAF2-4480-8C46-07087D5C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C0E0-8A1E-4948-9FCF-F8C7634A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86C-DCF3-4BD6-8162-D9BDF0FD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2AD6-421F-459C-AB13-B4C93204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A283-A231-4FA0-BA81-19D9F2E1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17AD-5BAA-45CE-8950-B1502E5A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53CA-EE7F-4143-9621-62D22FC2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8D1F-5EBB-436A-8D95-38C599B5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2A7-0CA9-4909-9A65-5CD3F83C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BEE-EF9F-4E6C-97B3-D27C9EAE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80B6-B4B2-4502-B32E-5F9BE376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EA2-B07E-466B-B06D-C5846F9F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D5A-AA74-4D72-A18C-D8433C4E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5A56-C384-4369-B397-64B13728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2A5-2F71-43F4-B30A-0A10DB80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34FA-7B36-4924-9E6E-FAAF09C878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9BEA-7DF2-400B-9BED-9F53A40AF5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ourse Selection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2016-201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(IB)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 credits in English (1 credit per gra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 credits in Mathematics (1 credit in Grade 11 or 12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 credits in Sc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Canadian His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Canadian Ge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the A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Health and Physical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French as a Second Langu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.5 credit in Career Stud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.5 credit in Civ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1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English, or French as a Second Language, or a Native language, or a Classical or an International language, or Social Sciences and the Humanities, or Canadian and World Studies, or Guidance and Career Education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2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Health and Physical Education, or the Arts, or Business Studies, or French as a Second Language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3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Science (Grade 11 or 12), or Technological Education, or French as a Second Language, or Computer Studies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place? Complete an apprenticeship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lege? University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/travel? Part-time studies/work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ap year to upgrad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ider your strengths and interests when making a decis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uct some research to decide on option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COLLEG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Earn a diploma, applied degree, collaborative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SSD, ENG4C, and others depending on the specific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rtfolios, Program tests (Math, Language, HOAE), and/or interviews are required for certain progra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plied degree programs and collaborative programs generally have university require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ulation agreements with universities – opportunity to continue from college into degree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UNIVERSIT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Earn a Bachelor’s Degre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BSc, BCom, B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SS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 4U or 4M courses (some schools maximum of two 4M cours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G4U and specific program require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nimum cut-off averages in specific courses for specific progra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rtfolios, test results, and/or interviews are required for certain progra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elds of Stud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ivers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57200" y="1995480"/>
            <a:ext cx="82296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2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13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7" name="Object 6"/>
          <p:cNvGraphicFramePr/>
          <p:nvPr/>
        </p:nvGraphicFramePr>
        <p:xfrm>
          <a:off x="1638360" y="228600"/>
          <a:ext cx="6075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28600"/>
                    <a:ext cx="6075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ww.ontariocolleges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ww.electronicinfo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B Requir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must take 6 IB cour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1: Language and Liter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2: Language Acquis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3: Individuals and Socie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4: Sc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5: Mathemat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6: Arts or El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inimum of three at the HL (may be up to 4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phant in the Ro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am thinking of leaving IB…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ider all avenues available for you to find succes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nd the best fit for your academic and personal nee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eak openly with your parents and Guidance about your concer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D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You must take the Theory of Knowledge course (HZT4UE) (Grade 11-IB1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must complete C.A.S. requirement (Creative/Active/Service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must complete an Extended Essay and TOK pap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L or S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y programs are taught at the Higher Level (H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am can be written at the Standard Level (SL) – Maximum 2 SL exams in IB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cision on level is finalized in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ctober of IB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you register for exa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oup 1: Language and Literat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28600" y="1447920"/>
          <a:ext cx="8763120" cy="419076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752480"/>
                <a:gridCol w="1752480"/>
                <a:gridCol w="1752840"/>
              </a:tblGrid>
              <a:tr h="1396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lish A: Standard Level or Higher Level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1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2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3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4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roup 2: Language Acquisitio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52280" y="990720"/>
          <a:ext cx="8458200" cy="1657080"/>
        </p:xfrm>
        <a:graphic>
          <a:graphicData uri="http://schemas.openxmlformats.org/drawingml/2006/table">
            <a:tbl>
              <a:tblPr/>
              <a:tblGrid>
                <a:gridCol w="1690920"/>
                <a:gridCol w="1357200"/>
                <a:gridCol w="1447920"/>
                <a:gridCol w="1676160"/>
                <a:gridCol w="2286000"/>
              </a:tblGrid>
              <a:tr h="41436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anish B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B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B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DU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must be SL exam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DU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52280" y="4648320"/>
          <a:ext cx="8534520" cy="193968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69768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ench A:  Standard Level or Higher Level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Students will be given the opportunity to write French B H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4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52280" y="2743200"/>
          <a:ext cx="8534520" cy="17146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500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ench B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4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oup 3: Individuals and Societi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80880" y="1127160"/>
          <a:ext cx="8229600" cy="3125880"/>
        </p:xfrm>
        <a:graphic>
          <a:graphicData uri="http://schemas.openxmlformats.org/drawingml/2006/table">
            <a:tbl>
              <a:tblPr/>
              <a:tblGrid>
                <a:gridCol w="1644840"/>
                <a:gridCol w="1646280"/>
                <a:gridCol w="1647720"/>
                <a:gridCol w="1646280"/>
                <a:gridCol w="1644480"/>
              </a:tblGrid>
              <a:tr h="36648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ograph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C1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F3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W4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C1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F3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W4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dents can move the grade 11 and 12 course into grades 10 and 11.  IF the student chooses this option, the exam will be written in grade 11 and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be a SL exa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52280" y="4495680"/>
          <a:ext cx="8534520" cy="170028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stor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/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C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N4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Y4U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111"/>
          <p:cNvSpPr/>
          <p:nvPr/>
        </p:nvSpPr>
        <p:spPr>
          <a:xfrm>
            <a:off x="378360" y="6324480"/>
            <a:ext cx="45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Canadian World Studies and Human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oup 3: Individuals and Societ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04920" y="1447920"/>
          <a:ext cx="8534160" cy="192060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6397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Technology in a Global Society (ITGS):  Standard Level ON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TIJ1O or TGJ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2O or ICS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3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roup 4: Scienc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52280" y="990720"/>
          <a:ext cx="8458200" cy="162216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436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iolog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4UE 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52280" y="4648320"/>
          <a:ext cx="8534520" cy="16113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ysics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4UE 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52280" y="2743200"/>
          <a:ext cx="8534520" cy="177480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500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mistr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4U1/2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4: Sci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04920" y="1143000"/>
          <a:ext cx="8534160" cy="192096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rts and Exercise Science:  Standard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 grade 11 Science (preferably Biolog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SK4U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5: Mathema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280" y="990720"/>
          <a:ext cx="8458200" cy="190188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436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Studies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 or MPM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 or MPM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R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dents may take MDM4U, MHF4U, MCV4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52280" y="4943520"/>
          <a:ext cx="8534520" cy="16113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ematics: 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HF4U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V4U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52280" y="3048120"/>
          <a:ext cx="8534520" cy="171432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500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ematics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HF4U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V4U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6: Ar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2280" y="990720"/>
          <a:ext cx="8458200" cy="174924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265400"/>
                <a:gridCol w="2119320"/>
                <a:gridCol w="1690560"/>
              </a:tblGrid>
              <a:tr h="411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3ME and AMR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4ME and AMR4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52280" y="4943520"/>
          <a:ext cx="8534520" cy="16113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Arts: 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3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4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WM4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52280" y="2933640"/>
          <a:ext cx="8534520" cy="17146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500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Arts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3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4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derstanding your Credit Counseling Summary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sonal In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ty Involv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tario Literacy T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st cour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urrent cour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duation criter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6: Ar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04920" y="1143000"/>
          <a:ext cx="8534160" cy="161136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lm:  Standard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J1O or TGJ1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2O or ICS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3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4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 Box 26"/>
          <p:cNvSpPr/>
          <p:nvPr/>
        </p:nvSpPr>
        <p:spPr>
          <a:xfrm>
            <a:off x="610560" y="3308400"/>
            <a:ext cx="68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TE:  students may select a second group 2 or 3 or 4 subj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substitute for a Group 6:  Art cour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ulp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s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sical Theat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ocal Jaz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nadian World Stud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gional Geograph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ligious Stud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thropology, Sociology&amp; Psych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boriginal Beliefs, Values &amp; Aspira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nadian La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emist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hysic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arth and Space Sci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hysical Edu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hys-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tne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utdoor Edu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uter Stud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earboo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unication Techn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ign Techn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sin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usiness 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operative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great opportunity for experiential learn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y out a job and see how it fee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second day in the afternoon (COP3PD*) – 2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afternoon (COP4PD*) –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Under Guidance/Career Ed. in Career Crui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HSM – Arts and Culture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igital Medi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52280" y="190512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ludes a bundle of major and other required cred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ertification and in-depth training in a chosen employment sec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n in grade 11 and grade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renticeship, College, University, and Workplace pathways avail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ccessful completion leads to a Red Seal on the OSSD plus a program record transcri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HSM – Arts and Culture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igital Medi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990720" y="1752480"/>
          <a:ext cx="6933960" cy="47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693396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Option She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a contract for what you want to take next yea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research your college and university requireme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ask and consider the advice of your teach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aware of prerequisite cours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an appointment with your guidance counselor to discuss op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will try to place you in all of your requested cours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we can not, we will contact you with alternate opportunities or use your alternate cho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reer Cruis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areer Cruis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609480" y="914400"/>
          <a:ext cx="7925040" cy="57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792504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areer Cruis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685800" y="990720"/>
          <a:ext cx="7696080" cy="56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69608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colonelby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see IB course guide online at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ibcb.ca/ibcourseguide20142015.pdf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ersonal Information, Community Involvement, Ont. Literacy Test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763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gistration will begin on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y 1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gistration can be completed online through Career Cruising.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you are taking a summer school course, identify the course in the space provid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-up and Reach Ahead op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Course Selection:  Note on your Course Selectio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int ou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our intention to take summer school.  This is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 official summer school registr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an appointment with guid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earch your optio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uss recommended course levels with teach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ll out a planning she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stand your personal balanc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will I achieve the strongest success BIG PICTU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uss options with pare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decisions are about you, so do not give up on the opportunity to speak u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rse Selection Due Dat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hursday, February 18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Verdan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mit to classroom teacher for this pres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Geography – grade 9; History – grade 10; TOK – IB1/grade 11; English – grade 1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ast / Completed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Current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534520" cy="2625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533520" y="4876920"/>
            <a:ext cx="815328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ccecff"/>
                </a:solidFill>
                <a:latin typeface="Arial"/>
              </a:rPr>
              <a:t>Graduation Criteria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99172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o read a co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rst three letters are the subjec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G  = Englis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VI   = Visual Ar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BI    = Biolo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# Indicates ye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 = 9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 = 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 = 1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  = 1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ding the C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G2DE= Grade 10 English Academic, I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NC 2DJ = Grade 10 Science, IB, Immer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BI3UE = Grade 11 Biology I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CR 3UE = Grade 11 Math Studies, I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GJ3M  = Grade 11  Communication Tech College/Univers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MI3C = Grade 11 Marketing Colle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F3O = Grade 11 Fitness  Op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4:22:03Z</dcterms:created>
  <dc:creator>C30185</dc:creator>
  <dc:description/>
  <dc:language>en-US</dc:language>
  <cp:lastModifiedBy>Jill Badgery</cp:lastModifiedBy>
  <dcterms:modified xsi:type="dcterms:W3CDTF">2016-02-09T14:15:39Z</dcterms:modified>
  <cp:revision>83</cp:revision>
  <dc:subject/>
  <dc:title>Option sheets 2014-2015</dc:title>
</cp:coreProperties>
</file>